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7.png" ContentType="image/png"/>
  <Override PartName="/ppt/media/image9.png" ContentType="image/png"/>
  <Override PartName="/ppt/media/image39.png" ContentType="image/png"/>
  <Override PartName="/ppt/media/image8.png" ContentType="image/png"/>
  <Override PartName="/ppt/media/image29.jpeg" ContentType="image/jpeg"/>
  <Override PartName="/ppt/media/image3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7.jpeg" ContentType="image/jpeg"/>
  <Override PartName="/ppt/media/image40.png" ContentType="image/png"/>
  <Override PartName="/ppt/media/image41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13.wmf" ContentType="image/x-wmf"/>
  <Override PartName="/ppt/media/image2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1A8C-03E1-4BA9-8186-D9E16E297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BF70-0B8B-4260-AF0B-43FFC3513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7C5B-1B34-4D33-B52E-F624C929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CDA5-7FDD-492E-A795-E0719CDC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B34D-9055-4EDC-82BD-D25A84B9C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4BA3-0550-4EAB-8427-169FE5FE4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F261-0AC9-4ECF-9A2D-A5CB7F37D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2DA3-17A3-4A8E-8609-AD369F0F2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8299-5D5A-4596-995C-305123E8C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DE3E-946D-462F-BB2A-107B6DACE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FF71-3D1D-4169-9262-B7DAEC8F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FBF5-D237-404E-BB41-777E1A56F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1779-95C9-4E3E-93F8-B6EBB0EEA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CCFD-F5A4-4C47-AA83-D0E088B8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EEAE-37F4-4BFF-B81E-3B10097E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6EEB-693E-4FA8-A683-BB0C404D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3E47-1D8E-43BC-B2A0-D965B5D3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8228-EE64-4607-A785-AFD2366D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372-7634-4119-AF82-48E6E2F3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B02-948C-410D-B5FF-7E2FA059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8F43-9EEB-4395-A924-8F8C2364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A873-651E-48A7-A315-F628DA0F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653D-C6E9-4014-86FA-64D73B47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F866-0BD3-4F60-944C-4C10B340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9ACE-E41A-4C00-9B1B-0D0A4157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87F4-95B8-4F85-81F7-7A39A62E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1362-3609-4DB7-A797-74D15E3F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193-A72A-46EF-96FB-ACA9CF7E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6D90C-870E-4ABE-8B76-C56B4A1B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3E7F-7D29-4385-B9C9-032BEF9A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0EA7-79D6-438B-AA2E-6193FCDD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7DDA-DB86-42D7-B840-869FD741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6D76-CC07-4B3B-BC85-B9079175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1B887-FEC1-4989-B872-B7CC6CFA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FB16-9A73-4A82-9736-78A05650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2FED-CE0C-46E8-BF3A-8C59BA90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EA28-C198-40C6-B791-1DDA262D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05F54-4B35-4997-B1F2-4DB9E7FE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E46-FD46-4ED7-B786-49EDBC10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813E9-F276-4FA5-9802-09D6ABFA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183A-CD95-4D7D-99A6-CAFE9FF8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9818C-7526-46A5-B786-35AD4BD7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8BF0B-AE34-4364-BDA1-A09146C7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E1E6-BA4A-4C7E-A378-88A2603D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CD7B-D213-435A-BD8A-A97CEFB7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05C76-8185-4D8E-B5CA-BDD68B82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898E-D7EF-4CCE-8A8B-10233A03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1A6-D960-47C1-906E-6B26EB5E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8E4-EC08-4CEA-927E-FC3F52F2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8A73-82C7-4BC4-8318-616A3C5E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149-CA29-4BD8-B948-A5B78528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36D8-DCDB-4908-A1AD-D3AEF9A6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6D96-40A3-46FF-A7DB-65B77325FB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5324400" y="76320"/>
            <a:ext cx="374328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DA0F-8E56-41DC-BA43-088C45624E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7772400" y="61920"/>
            <a:ext cx="129528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0C0B-2640-4C86-9D18-89CD9A05E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Rectangle 2"/>
          <p:cNvGrpSpPr/>
          <p:nvPr/>
        </p:nvGrpSpPr>
        <p:grpSpPr>
          <a:xfrm>
            <a:off x="1328760" y="1206360"/>
            <a:ext cx="6645240" cy="1702080"/>
            <a:chOff x="1328760" y="1206360"/>
            <a:chExt cx="6645240" cy="1702080"/>
          </a:xfrm>
        </p:grpSpPr>
        <p:pic>
          <p:nvPicPr>
            <p:cNvPr id="133" name="Rectangle 2" descr=""/>
            <p:cNvPicPr/>
            <p:nvPr/>
          </p:nvPicPr>
          <p:blipFill>
            <a:blip r:embed="rId1"/>
            <a:stretch/>
          </p:blipFill>
          <p:spPr>
            <a:xfrm>
              <a:off x="1328760" y="1206360"/>
              <a:ext cx="66452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47920" y="1371600"/>
              <a:ext cx="6400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Calibri"/>
                </a:rPr>
                <a:t>Growth hormone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35" name="Picture 9" descr="http://coachcalorie.com/wp-content/uploads/2011/10/how-to-naturally-increase-growth-hormone.png"/>
          <p:cNvPicPr/>
          <p:nvPr/>
        </p:nvPicPr>
        <p:blipFill>
          <a:blip r:embed="rId2"/>
          <a:stretch/>
        </p:blipFill>
        <p:spPr>
          <a:xfrm>
            <a:off x="1828800" y="3048120"/>
            <a:ext cx="5638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86728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Title 1"/>
          <p:cNvGrpSpPr/>
          <p:nvPr/>
        </p:nvGrpSpPr>
        <p:grpSpPr>
          <a:xfrm>
            <a:off x="334800" y="457200"/>
            <a:ext cx="8474400" cy="1414440"/>
            <a:chOff x="334800" y="457200"/>
            <a:chExt cx="8474400" cy="1414440"/>
          </a:xfrm>
        </p:grpSpPr>
        <p:pic>
          <p:nvPicPr>
            <p:cNvPr id="169" name="Title 1" descr=""/>
            <p:cNvPicPr/>
            <p:nvPr/>
          </p:nvPicPr>
          <p:blipFill>
            <a:blip r:embed="rId1"/>
            <a:stretch/>
          </p:blipFill>
          <p:spPr>
            <a:xfrm>
              <a:off x="334800" y="457200"/>
              <a:ext cx="84744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7200" y="609480"/>
              <a:ext cx="8229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Chondrogenesis &amp; bone growth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"/>
          <p:cNvSpPr txBox="1"/>
          <p:nvPr/>
        </p:nvSpPr>
        <p:spPr>
          <a:xfrm>
            <a:off x="45720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In young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before union of epiphysis) GH stimulates chondrogenesis (proliferation of epiphyseal cartilage &amp; widening of epiphyseal plates). Stimulation of osteoblasts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one matrix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length of long bon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In adult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after union of epiphysis) linear growth is impossibl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1c028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Growth Hormone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1"/>
          <p:cNvSpPr/>
          <p:nvPr/>
        </p:nvSpPr>
        <p:spPr>
          <a:xfrm>
            <a:off x="285840" y="4643280"/>
            <a:ext cx="2228760" cy="825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288"/>
                </a:solidFill>
                <a:latin typeface="Arial"/>
                <a:ea typeface="ＭＳ Ｐゴシック"/>
              </a:rPr>
              <a:t>GH half - lif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0288"/>
                </a:solidFill>
                <a:latin typeface="Arial"/>
                <a:ea typeface="ＭＳ Ｐゴシック"/>
              </a:rPr>
              <a:t>= 20 - 30 mi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295280" y="1371600"/>
            <a:ext cx="7383240" cy="5105160"/>
            <a:chOff x="1295280" y="1371600"/>
            <a:chExt cx="7383240" cy="5105160"/>
          </a:xfrm>
        </p:grpSpPr>
        <p:sp>
          <p:nvSpPr>
            <p:cNvPr id="175" name="Flowchart: Process 3"/>
            <p:cNvSpPr/>
            <p:nvPr/>
          </p:nvSpPr>
          <p:spPr>
            <a:xfrm>
              <a:off x="3138840" y="1371600"/>
              <a:ext cx="3181320" cy="615240"/>
            </a:xfrm>
            <a:prstGeom prst="flowChartProcess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hypothalamu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76" name="Straight Arrow Connector 5"/>
            <p:cNvCxnSpPr/>
            <p:nvPr/>
          </p:nvCxnSpPr>
          <p:spPr>
            <a:xfrm flipH="1">
              <a:off x="3992400" y="1965960"/>
              <a:ext cx="2160" cy="1066680"/>
            </a:xfrm>
            <a:prstGeom prst="straightConnector1">
              <a:avLst/>
            </a:prstGeom>
            <a:ln w="28440">
              <a:solidFill>
                <a:srgbClr val="065093"/>
              </a:solidFill>
              <a:miter/>
              <a:tailEnd len="med" type="arrow" w="med"/>
            </a:ln>
          </p:spPr>
        </p:cxnSp>
        <p:grpSp>
          <p:nvGrpSpPr>
            <p:cNvPr id="177" name="Group 10"/>
            <p:cNvGrpSpPr/>
            <p:nvPr/>
          </p:nvGrpSpPr>
          <p:grpSpPr>
            <a:xfrm>
              <a:off x="5384520" y="1966320"/>
              <a:ext cx="244800" cy="1065960"/>
              <a:chOff x="5384520" y="1966320"/>
              <a:chExt cx="244800" cy="1065960"/>
            </a:xfrm>
          </p:grpSpPr>
          <p:sp>
            <p:nvSpPr>
              <p:cNvPr id="178" name="Straight Connector 7"/>
              <p:cNvSpPr/>
              <p:nvPr/>
            </p:nvSpPr>
            <p:spPr>
              <a:xfrm>
                <a:off x="5508360" y="1966320"/>
                <a:ext cx="0" cy="103104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Straight Connector 9"/>
              <p:cNvSpPr/>
              <p:nvPr/>
            </p:nvSpPr>
            <p:spPr>
              <a:xfrm>
                <a:off x="5384520" y="3032280"/>
                <a:ext cx="244800" cy="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0" name="AutoShape 16"/>
            <p:cNvSpPr/>
            <p:nvPr/>
          </p:nvSpPr>
          <p:spPr>
            <a:xfrm>
              <a:off x="3709800" y="2525040"/>
              <a:ext cx="164520" cy="155160"/>
            </a:xfrm>
            <a:prstGeom prst="plus">
              <a:avLst>
                <a:gd name="adj" fmla="val 37361"/>
              </a:avLst>
            </a:prstGeom>
            <a:solidFill>
              <a:srgbClr val="1c0288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Rectangle 17"/>
            <p:cNvSpPr/>
            <p:nvPr/>
          </p:nvSpPr>
          <p:spPr>
            <a:xfrm>
              <a:off x="5586120" y="2678760"/>
              <a:ext cx="164520" cy="76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Box 14"/>
            <p:cNvSpPr/>
            <p:nvPr/>
          </p:nvSpPr>
          <p:spPr>
            <a:xfrm>
              <a:off x="1295280" y="1981440"/>
              <a:ext cx="2436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 hormone releasing hormone </a:t>
              </a:r>
              <a:r>
                <a:rPr b="1" lang="en-US" sz="2000" spc="-1" strike="noStrike">
                  <a:solidFill>
                    <a:srgbClr val="1c0288"/>
                  </a:solidFill>
                  <a:latin typeface="Arial"/>
                  <a:ea typeface="ＭＳ Ｐゴシック"/>
                </a:rPr>
                <a:t>(GHRH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Box 16"/>
            <p:cNvSpPr/>
            <p:nvPr/>
          </p:nvSpPr>
          <p:spPr>
            <a:xfrm>
              <a:off x="5905080" y="1981440"/>
              <a:ext cx="2773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 hormone inhibiting hormone </a:t>
              </a:r>
              <a:r>
                <a:rPr b="1" lang="en-US" sz="2000" spc="-1" strike="noStrike">
                  <a:solidFill>
                    <a:srgbClr val="1c0288"/>
                  </a:solidFill>
                  <a:latin typeface="Arial"/>
                  <a:ea typeface="ＭＳ Ｐゴシック"/>
                </a:rPr>
                <a:t>Somatostatin (GHIH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Flowchart: Process 17"/>
            <p:cNvSpPr/>
            <p:nvPr/>
          </p:nvSpPr>
          <p:spPr>
            <a:xfrm>
              <a:off x="3122280" y="3124440"/>
              <a:ext cx="3179520" cy="564120"/>
            </a:xfrm>
            <a:prstGeom prst="flowChartProcess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terior pituit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AutoShape 16"/>
            <p:cNvSpPr/>
            <p:nvPr/>
          </p:nvSpPr>
          <p:spPr>
            <a:xfrm>
              <a:off x="3644640" y="4180680"/>
              <a:ext cx="164520" cy="155160"/>
            </a:xfrm>
            <a:prstGeom prst="plus">
              <a:avLst>
                <a:gd name="adj" fmla="val 37361"/>
              </a:avLst>
            </a:prstGeom>
            <a:solidFill>
              <a:srgbClr val="1c0288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TextBox 20"/>
            <p:cNvSpPr/>
            <p:nvPr/>
          </p:nvSpPr>
          <p:spPr>
            <a:xfrm>
              <a:off x="4079520" y="4016520"/>
              <a:ext cx="277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rowth hormone (GH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Flowchart: Process 17"/>
            <p:cNvSpPr/>
            <p:nvPr/>
          </p:nvSpPr>
          <p:spPr>
            <a:xfrm>
              <a:off x="3271320" y="4723920"/>
              <a:ext cx="1756440" cy="614880"/>
            </a:xfrm>
            <a:prstGeom prst="flowChartProcess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ve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8" name="Straight Arrow Connector 5"/>
            <p:cNvCxnSpPr/>
            <p:nvPr/>
          </p:nvCxnSpPr>
          <p:spPr>
            <a:xfrm flipH="1">
              <a:off x="3992400" y="3688200"/>
              <a:ext cx="2160" cy="1066680"/>
            </a:xfrm>
            <a:prstGeom prst="straightConnector1">
              <a:avLst/>
            </a:prstGeom>
            <a:ln w="28440">
              <a:solidFill>
                <a:srgbClr val="065093"/>
              </a:solidFill>
              <a:miter/>
              <a:tailEnd len="med" type="arrow" w="med"/>
            </a:ln>
          </p:spPr>
        </p:cxnSp>
        <p:cxnSp>
          <p:nvCxnSpPr>
            <p:cNvPr id="189" name="Straight Arrow Connector 5"/>
            <p:cNvCxnSpPr/>
            <p:nvPr/>
          </p:nvCxnSpPr>
          <p:spPr>
            <a:xfrm flipH="1">
              <a:off x="3992400" y="5410440"/>
              <a:ext cx="2160" cy="1066680"/>
            </a:xfrm>
            <a:prstGeom prst="straightConnector1">
              <a:avLst/>
            </a:prstGeom>
            <a:ln w="28440">
              <a:solidFill>
                <a:srgbClr val="065093"/>
              </a:solidFill>
              <a:miter/>
              <a:tailEnd len="med" type="arrow" w="med"/>
            </a:ln>
          </p:spPr>
        </p:cxnSp>
        <p:sp>
          <p:nvSpPr>
            <p:cNvPr id="190" name="TextBox 20"/>
            <p:cNvSpPr/>
            <p:nvPr/>
          </p:nvSpPr>
          <p:spPr>
            <a:xfrm>
              <a:off x="4166640" y="5657040"/>
              <a:ext cx="2773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sulin-like growth factor 1 (IGF-1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AutoShape 16"/>
            <p:cNvSpPr/>
            <p:nvPr/>
          </p:nvSpPr>
          <p:spPr>
            <a:xfrm>
              <a:off x="3644640" y="5820840"/>
              <a:ext cx="164520" cy="155160"/>
            </a:xfrm>
            <a:prstGeom prst="plus">
              <a:avLst>
                <a:gd name="adj" fmla="val 37361"/>
              </a:avLst>
            </a:prstGeom>
            <a:solidFill>
              <a:srgbClr val="1c0288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Rectangle 2"/>
          <p:cNvGrpSpPr/>
          <p:nvPr/>
        </p:nvGrpSpPr>
        <p:grpSpPr>
          <a:xfrm>
            <a:off x="334800" y="420840"/>
            <a:ext cx="8474400" cy="1414440"/>
            <a:chOff x="334800" y="420840"/>
            <a:chExt cx="8474400" cy="1414440"/>
          </a:xfrm>
        </p:grpSpPr>
        <p:pic>
          <p:nvPicPr>
            <p:cNvPr id="193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420840"/>
              <a:ext cx="84744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57200" y="609480"/>
              <a:ext cx="822960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400" spc="-1" strike="noStrike">
                  <a:solidFill>
                    <a:srgbClr val="ffff00"/>
                  </a:solidFill>
                  <a:latin typeface="Calibri"/>
                </a:rPr>
                <a:t>Negative Feedback 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5" name=""/>
          <p:cNvSpPr txBox="1"/>
          <p:nvPr/>
        </p:nvSpPr>
        <p:spPr>
          <a:xfrm>
            <a:off x="380520" y="17521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Calibri"/>
              </a:rPr>
              <a:t>High levels of IGF-1 Stimulates somatostatin GHIH (=SS)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3400" spc="-1" strike="noStrike">
                <a:solidFill>
                  <a:srgbClr val="000000"/>
                </a:solidFill>
                <a:latin typeface="Calibri"/>
              </a:rPr>
              <a:t>decreased secretion of GH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Calibri"/>
              </a:rPr>
              <a:t>High levels of GH inhibits GHRH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2"/>
          <a:srcRect l="33001" t="0" r="0" b="0"/>
          <a:stretch/>
        </p:blipFill>
        <p:spPr>
          <a:xfrm>
            <a:off x="5486400" y="1676520"/>
            <a:ext cx="33019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Rectangle 2"/>
          <p:cNvGrpSpPr/>
          <p:nvPr/>
        </p:nvGrpSpPr>
        <p:grpSpPr>
          <a:xfrm>
            <a:off x="2163600" y="-73080"/>
            <a:ext cx="4816800" cy="1316160"/>
            <a:chOff x="2163600" y="-73080"/>
            <a:chExt cx="4816800" cy="1316160"/>
          </a:xfrm>
        </p:grpSpPr>
        <p:pic>
          <p:nvPicPr>
            <p:cNvPr id="198" name="Rectangle 2" descr=""/>
            <p:cNvPicPr/>
            <p:nvPr/>
          </p:nvPicPr>
          <p:blipFill>
            <a:blip r:embed="rId1"/>
            <a:stretch/>
          </p:blipFill>
          <p:spPr>
            <a:xfrm>
              <a:off x="2163600" y="-73080"/>
              <a:ext cx="48168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286000" y="152280"/>
              <a:ext cx="4572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GH Secretion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0" name=""/>
          <p:cNvSpPr txBox="1"/>
          <p:nvPr/>
        </p:nvSpPr>
        <p:spPr>
          <a:xfrm>
            <a:off x="228240" y="990360"/>
            <a:ext cx="4267080" cy="5715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creted in 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bursts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(not continuou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H is released most during 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sleep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ptimal at night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Changing sleeping pattern affects GH re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GH production declines with 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2"/>
          <a:stretch/>
        </p:blipFill>
        <p:spPr>
          <a:xfrm>
            <a:off x="4724280" y="4191120"/>
            <a:ext cx="4191120" cy="24382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202" name="Picture 3" descr=""/>
          <p:cNvPicPr/>
          <p:nvPr/>
        </p:nvPicPr>
        <p:blipFill>
          <a:blip r:embed="rId3"/>
          <a:stretch/>
        </p:blipFill>
        <p:spPr>
          <a:xfrm>
            <a:off x="4724280" y="990720"/>
            <a:ext cx="4191120" cy="3047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Rectangle 2"/>
          <p:cNvGrpSpPr/>
          <p:nvPr/>
        </p:nvGrpSpPr>
        <p:grpSpPr>
          <a:xfrm>
            <a:off x="334800" y="457200"/>
            <a:ext cx="8474400" cy="1414440"/>
            <a:chOff x="334800" y="457200"/>
            <a:chExt cx="8474400" cy="1414440"/>
          </a:xfrm>
        </p:grpSpPr>
        <p:pic>
          <p:nvPicPr>
            <p:cNvPr id="204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457200"/>
              <a:ext cx="84744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609480"/>
              <a:ext cx="8229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400" spc="-1" strike="noStrike">
                  <a:solidFill>
                    <a:srgbClr val="ffff00"/>
                  </a:solidFill>
                  <a:latin typeface="Calibri"/>
                </a:rPr>
                <a:t>Factors affecting GH secretion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762120" y="1828800"/>
          <a:ext cx="7543800" cy="4572000"/>
        </p:xfrm>
        <a:graphic>
          <a:graphicData uri="http://schemas.openxmlformats.org/drawingml/2006/table">
            <a:tbl>
              <a:tblPr/>
              <a:tblGrid>
                <a:gridCol w="3522600"/>
                <a:gridCol w="4021200"/>
              </a:tblGrid>
              <a:tr h="56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Factors stimulate 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SimSun"/>
                        </a:rPr>
                        <a:t>Factors inhibit 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- Hypoglyca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- Protein rich di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Amino acid in blood (as Arginin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- Exerc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- St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- Sleep (8 hou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-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ucag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-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SimSun"/>
                        </a:rPr>
                        <a:t>G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hrel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- Hyperglyc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ree fatty aci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- Excess GH feeds back to inhibit its own secre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- Excess Cortis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Title 1"/>
          <p:cNvGrpSpPr/>
          <p:nvPr/>
        </p:nvGrpSpPr>
        <p:grpSpPr>
          <a:xfrm>
            <a:off x="334800" y="0"/>
            <a:ext cx="8474400" cy="1994040"/>
            <a:chOff x="334800" y="0"/>
            <a:chExt cx="8474400" cy="1994040"/>
          </a:xfrm>
        </p:grpSpPr>
        <p:pic>
          <p:nvPicPr>
            <p:cNvPr id="208" name="Title 1" descr=""/>
            <p:cNvPicPr/>
            <p:nvPr/>
          </p:nvPicPr>
          <p:blipFill>
            <a:blip r:embed="rId1"/>
            <a:stretch/>
          </p:blipFill>
          <p:spPr>
            <a:xfrm>
              <a:off x="334800" y="0"/>
              <a:ext cx="847440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457200" y="304920"/>
              <a:ext cx="82296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ffff00"/>
                  </a:solidFill>
                  <a:uFillTx/>
                  <a:latin typeface="Calibri"/>
                </a:rPr>
                <a:t>HYPOPITUITARISM</a:t>
              </a:r>
              <a:br>
                <a:rPr sz="4400"/>
              </a:br>
              <a:r>
                <a:rPr b="1" lang="en-US" sz="4000" spc="-1" strike="noStrike">
                  <a:solidFill>
                    <a:srgbClr val="ffff00"/>
                  </a:solidFill>
                  <a:latin typeface="Calibri"/>
                </a:rPr>
                <a:t>1- DWARFISM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22860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th hormon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uring childhoo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haracterized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portionate dwarfism (short stature)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atures of body are proportionate to each other, but rate of development is decreased. Patient at age of 20 may has body development of a child at 10 ye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yroid defici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renocortical defici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ntal retardation (Wise person with small statur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reatment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Synthetic Growth horm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Title 1"/>
          <p:cNvGrpSpPr/>
          <p:nvPr/>
        </p:nvGrpSpPr>
        <p:grpSpPr>
          <a:xfrm>
            <a:off x="1785960" y="378000"/>
            <a:ext cx="5730840" cy="1420560"/>
            <a:chOff x="1785960" y="378000"/>
            <a:chExt cx="5730840" cy="1420560"/>
          </a:xfrm>
        </p:grpSpPr>
        <p:pic>
          <p:nvPicPr>
            <p:cNvPr id="212" name="Title 1" descr=""/>
            <p:cNvPicPr/>
            <p:nvPr/>
          </p:nvPicPr>
          <p:blipFill>
            <a:blip r:embed="rId1"/>
            <a:stretch/>
          </p:blipFill>
          <p:spPr>
            <a:xfrm>
              <a:off x="1785960" y="378000"/>
              <a:ext cx="57308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1905120" y="533520"/>
              <a:ext cx="5486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DWARFISM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4" name=""/>
          <p:cNvSpPr txBox="1"/>
          <p:nvPr/>
        </p:nvSpPr>
        <p:spPr>
          <a:xfrm>
            <a:off x="228600" y="16761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ne type of dwarfism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the African pygmy and the Lévi-Lorain dwarf)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ate of growth hormone secretion is normal or high, but there is a hereditary </a:t>
            </a:r>
            <a:r>
              <a:rPr b="1" lang="en-US" sz="2800" spc="-1" strike="noStrike">
                <a:solidFill>
                  <a:srgbClr val="0b1bb5"/>
                </a:solidFill>
                <a:latin typeface="Calibri"/>
              </a:rPr>
              <a:t>inability to form somatomedin 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a key step for the promotion of growth by growth horm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2"/>
          <a:srcRect l="3337" t="51114" r="59171" b="0"/>
          <a:stretch/>
        </p:blipFill>
        <p:spPr>
          <a:xfrm>
            <a:off x="5486400" y="17524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Title 1"/>
          <p:cNvGrpSpPr/>
          <p:nvPr/>
        </p:nvGrpSpPr>
        <p:grpSpPr>
          <a:xfrm>
            <a:off x="1852560" y="-133200"/>
            <a:ext cx="6016680" cy="1712880"/>
            <a:chOff x="1852560" y="-133200"/>
            <a:chExt cx="6016680" cy="1712880"/>
          </a:xfrm>
        </p:grpSpPr>
        <p:pic>
          <p:nvPicPr>
            <p:cNvPr id="217" name="Title 1" descr=""/>
            <p:cNvPicPr/>
            <p:nvPr/>
          </p:nvPicPr>
          <p:blipFill>
            <a:blip r:embed="rId1"/>
            <a:stretch/>
          </p:blipFill>
          <p:spPr>
            <a:xfrm>
              <a:off x="1852560" y="-133200"/>
              <a:ext cx="601668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2057400" y="228600"/>
              <a:ext cx="54864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2- Simmond’s disease </a:t>
              </a:r>
              <a:br>
                <a:rPr sz="4400"/>
              </a:br>
              <a:r>
                <a:rPr b="1" lang="en-US" sz="3200" spc="-1" strike="noStrike">
                  <a:solidFill>
                    <a:srgbClr val="ffff00"/>
                  </a:solidFill>
                  <a:latin typeface="Calibri"/>
                </a:rPr>
                <a:t>(=Pituitary Cachexia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9" name=""/>
          <p:cNvSpPr txBox="1"/>
          <p:nvPr/>
        </p:nvSpPr>
        <p:spPr>
          <a:xfrm>
            <a:off x="304920" y="1143000"/>
            <a:ext cx="85341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use: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amage of pituitary by Ischemia &amp; Tum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tpartum hemorrhag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ituitary necrosis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Sheehan's Syndrome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/P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anhypopituitaris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GH, TSH, ACTH, FSH &amp; LH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mature senility (=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geria)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s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f hair and body weight &amp; shrunken ski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stheni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muscular weaknes) &amp;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Ment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tiv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yroi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deficiency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w BMR &amp;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erum cholester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drenocortic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deficienc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ypoglycem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Gonad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deficiency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hypogonadism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2"/>
          <p:cNvGrpSpPr/>
          <p:nvPr/>
        </p:nvGrpSpPr>
        <p:grpSpPr>
          <a:xfrm>
            <a:off x="1328760" y="0"/>
            <a:ext cx="6340320" cy="1994040"/>
            <a:chOff x="1328760" y="0"/>
            <a:chExt cx="6340320" cy="1994040"/>
          </a:xfrm>
        </p:grpSpPr>
        <p:pic>
          <p:nvPicPr>
            <p:cNvPr id="221" name="Rectangle 2" descr=""/>
            <p:cNvPicPr/>
            <p:nvPr/>
          </p:nvPicPr>
          <p:blipFill>
            <a:blip r:embed="rId1"/>
            <a:stretch/>
          </p:blipFill>
          <p:spPr>
            <a:xfrm>
              <a:off x="1328760" y="0"/>
              <a:ext cx="6340320" cy="199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1447920" y="228600"/>
              <a:ext cx="60958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 u="sng">
                  <a:solidFill>
                    <a:srgbClr val="ffff00"/>
                  </a:solidFill>
                  <a:uFillTx/>
                  <a:latin typeface="Calibri"/>
                </a:rPr>
                <a:t>HYPERPITUITARISM </a:t>
              </a:r>
              <a:br>
                <a:rPr sz="4400"/>
              </a:b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1- Gigantism </a:t>
              </a:r>
              <a:r>
                <a:rPr b="1" lang="en-CA" sz="2800" spc="-1" strike="noStrike">
                  <a:solidFill>
                    <a:srgbClr val="ffff00"/>
                  </a:solidFill>
                  <a:latin typeface="Calibri"/>
                </a:rPr>
                <a:t>(Vertical Growth)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228240" y="304776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Pituitary Aden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umour formed by pituitary g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cretes excessive GH / IGF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on cancer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6461280" y="2590920"/>
            <a:ext cx="2408040" cy="5394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28600" y="1523880"/>
            <a:ext cx="86104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H by Acidophils in anterior pituitary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union of epiphysi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in childre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Caus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Rectangle 2"/>
          <p:cNvGrpSpPr/>
          <p:nvPr/>
        </p:nvGrpSpPr>
        <p:grpSpPr>
          <a:xfrm>
            <a:off x="334800" y="146160"/>
            <a:ext cx="8474400" cy="1414440"/>
            <a:chOff x="334800" y="146160"/>
            <a:chExt cx="8474400" cy="1414440"/>
          </a:xfrm>
        </p:grpSpPr>
        <p:pic>
          <p:nvPicPr>
            <p:cNvPr id="137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146160"/>
              <a:ext cx="84744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" y="380880"/>
              <a:ext cx="8229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Arial"/>
                  <a:ea typeface="Arial"/>
                </a:rPr>
                <a:t>Objectives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Rectangle 5"/>
          <p:cNvSpPr/>
          <p:nvPr/>
        </p:nvSpPr>
        <p:spPr>
          <a:xfrm>
            <a:off x="304920" y="2255760"/>
            <a:ext cx="8534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0666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he student 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the hormones that affect grow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scribe the metabolic effects of 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dentify relationship between GH and insulin-like growth fa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xplain the functions of  G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fine the factors that influence GH secre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30000"/>
              </a:lnSpc>
              <a:spcBef>
                <a:spcPts val="799"/>
              </a:spcBef>
              <a:buClr>
                <a:srgbClr val="4bacc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scribe GH abnormal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2"/>
          <p:cNvGrpSpPr/>
          <p:nvPr/>
        </p:nvGrpSpPr>
        <p:grpSpPr>
          <a:xfrm>
            <a:off x="2700360" y="73080"/>
            <a:ext cx="3517920" cy="1420920"/>
            <a:chOff x="2700360" y="73080"/>
            <a:chExt cx="3517920" cy="1420920"/>
          </a:xfrm>
        </p:grpSpPr>
        <p:pic>
          <p:nvPicPr>
            <p:cNvPr id="227" name="Rectangle 2" descr=""/>
            <p:cNvPicPr/>
            <p:nvPr/>
          </p:nvPicPr>
          <p:blipFill>
            <a:blip r:embed="rId1"/>
            <a:stretch/>
          </p:blipFill>
          <p:spPr>
            <a:xfrm>
              <a:off x="2700360" y="73080"/>
              <a:ext cx="35179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819520" y="304920"/>
              <a:ext cx="327636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400" spc="-1" strike="noStrike">
                  <a:solidFill>
                    <a:srgbClr val="ffff00"/>
                  </a:solidFill>
                  <a:latin typeface="Calibri"/>
                </a:rPr>
                <a:t>Gigantism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9" name=""/>
          <p:cNvSpPr txBox="1"/>
          <p:nvPr/>
        </p:nvSpPr>
        <p:spPr>
          <a:xfrm>
            <a:off x="228600" y="1066680"/>
            <a:ext cx="6477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Clinical pictur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body tissues grow rapidly i.e. general overgrowth of skelet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erson becomes 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ia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gh BMR (direct effect of GH on metabolic activity + effect of TSH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perglycemia &amp; diabetes mellit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wered general resistan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gonadotropin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pogonadis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hort life, if survives till adulthoo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cromega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giant"/>
          <p:cNvPicPr/>
          <p:nvPr/>
        </p:nvPicPr>
        <p:blipFill>
          <a:blip r:embed="rId2"/>
          <a:srcRect l="8743" t="3569" r="15537" b="3569"/>
          <a:stretch/>
        </p:blipFill>
        <p:spPr>
          <a:xfrm>
            <a:off x="6781680" y="1523880"/>
            <a:ext cx="2210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rcRect l="2502" t="0" r="11669" b="50003"/>
          <a:stretch/>
        </p:blipFill>
        <p:spPr>
          <a:xfrm>
            <a:off x="533520" y="380880"/>
            <a:ext cx="7924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2"/>
          <p:cNvGrpSpPr/>
          <p:nvPr/>
        </p:nvGrpSpPr>
        <p:grpSpPr>
          <a:xfrm>
            <a:off x="334800" y="122400"/>
            <a:ext cx="8474400" cy="1749240"/>
            <a:chOff x="334800" y="122400"/>
            <a:chExt cx="8474400" cy="1749240"/>
          </a:xfrm>
        </p:grpSpPr>
        <p:pic>
          <p:nvPicPr>
            <p:cNvPr id="233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122400"/>
              <a:ext cx="847440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457200" y="380880"/>
              <a:ext cx="822960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Calibri"/>
                </a:rPr>
                <a:t>World’s Tallest Man </a:t>
              </a:r>
              <a:br>
                <a:rPr sz="3600"/>
              </a:br>
              <a:r>
                <a:rPr b="1" lang="en-US" sz="3600" spc="-1" strike="noStrike">
                  <a:solidFill>
                    <a:srgbClr val="ffff00"/>
                  </a:solidFill>
                  <a:latin typeface="Calibri"/>
                </a:rPr>
                <a:t>Robert Wadlow </a:t>
              </a:r>
              <a:r>
                <a:rPr b="1" lang="en-CA" sz="3600" spc="-1" strike="noStrike">
                  <a:solidFill>
                    <a:srgbClr val="ffff00"/>
                  </a:solidFill>
                  <a:latin typeface="Calibri"/>
                </a:rPr>
                <a:t>(1918-1940) 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5" name=""/>
          <p:cNvSpPr txBox="1"/>
          <p:nvPr/>
        </p:nvSpPr>
        <p:spPr>
          <a:xfrm>
            <a:off x="380880" y="5790960"/>
            <a:ext cx="8229600" cy="6634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1f497d"/>
                </a:solidFill>
                <a:latin typeface="Calibri"/>
              </a:rPr>
              <a:t>8 feet 11 inches and 439 pounds when he di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4" descr="wadlow5"/>
          <p:cNvPicPr/>
          <p:nvPr/>
        </p:nvPicPr>
        <p:blipFill>
          <a:blip r:embed="rId2"/>
          <a:srcRect l="0" t="0" r="56816" b="0"/>
          <a:stretch/>
        </p:blipFill>
        <p:spPr>
          <a:xfrm>
            <a:off x="1295280" y="1676520"/>
            <a:ext cx="3048120" cy="3962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gigantism.jpg"/>
          <p:cNvPicPr/>
          <p:nvPr/>
        </p:nvPicPr>
        <p:blipFill>
          <a:blip r:embed="rId3"/>
          <a:srcRect l="8349" t="4229" r="7517" b="6130"/>
          <a:stretch/>
        </p:blipFill>
        <p:spPr>
          <a:xfrm>
            <a:off x="5105520" y="1676520"/>
            <a:ext cx="2895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Rectangle 2"/>
          <p:cNvGrpSpPr/>
          <p:nvPr/>
        </p:nvGrpSpPr>
        <p:grpSpPr>
          <a:xfrm>
            <a:off x="2243160" y="-19080"/>
            <a:ext cx="4359240" cy="1884240"/>
            <a:chOff x="2243160" y="-19080"/>
            <a:chExt cx="4359240" cy="1884240"/>
          </a:xfrm>
        </p:grpSpPr>
        <p:pic>
          <p:nvPicPr>
            <p:cNvPr id="239" name="Rectangle 2" descr=""/>
            <p:cNvPicPr/>
            <p:nvPr/>
          </p:nvPicPr>
          <p:blipFill>
            <a:blip r:embed="rId1"/>
            <a:stretch/>
          </p:blipFill>
          <p:spPr>
            <a:xfrm>
              <a:off x="2243160" y="-19080"/>
              <a:ext cx="4359240" cy="18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362320" y="228600"/>
              <a:ext cx="41148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800" spc="-1" strike="noStrike">
                  <a:solidFill>
                    <a:srgbClr val="ffff00"/>
                  </a:solidFill>
                  <a:latin typeface="Calibri"/>
                </a:rPr>
                <a:t>Acromegaly</a:t>
              </a:r>
              <a:r>
                <a:rPr b="1" lang="en-CA" sz="44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br>
                <a:rPr sz="4400"/>
              </a:br>
              <a:r>
                <a:rPr b="1" lang="en-CA" sz="3200" spc="-1" strike="noStrike">
                  <a:solidFill>
                    <a:srgbClr val="ffff00"/>
                  </a:solidFill>
                  <a:latin typeface="Calibri"/>
                </a:rPr>
                <a:t>(Lateral Growth)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1" name=""/>
          <p:cNvSpPr txBox="1"/>
          <p:nvPr/>
        </p:nvSpPr>
        <p:spPr>
          <a:xfrm>
            <a:off x="380520" y="16761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r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extremity as hands and fee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gal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 larg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↑↑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H b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dophil 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ft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union of epiphysis (i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ult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Closed epiphyseal plate → Bone lengthening stopp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Bone width increas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Slow progre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6553080" y="2590920"/>
            <a:ext cx="2210040" cy="1066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3" name="Picture 3" descr=""/>
          <p:cNvPicPr/>
          <p:nvPr/>
        </p:nvPicPr>
        <p:blipFill>
          <a:blip r:embed="rId2"/>
          <a:stretch/>
        </p:blipFill>
        <p:spPr>
          <a:xfrm>
            <a:off x="6553080" y="838080"/>
            <a:ext cx="2133720" cy="1676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4" name="Picture 2" descr=""/>
          <p:cNvPicPr/>
          <p:nvPr/>
        </p:nvPicPr>
        <p:blipFill>
          <a:blip r:embed="rId3"/>
          <a:srcRect l="2630" t="6534" r="2630" b="8033"/>
          <a:stretch/>
        </p:blipFill>
        <p:spPr>
          <a:xfrm>
            <a:off x="457200" y="1143000"/>
            <a:ext cx="5867280" cy="205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5" name="Rectangle 5"/>
          <p:cNvGrpSpPr/>
          <p:nvPr/>
        </p:nvGrpSpPr>
        <p:grpSpPr>
          <a:xfrm>
            <a:off x="743040" y="-109440"/>
            <a:ext cx="7310520" cy="1309680"/>
            <a:chOff x="743040" y="-109440"/>
            <a:chExt cx="7310520" cy="1309680"/>
          </a:xfrm>
        </p:grpSpPr>
        <p:pic>
          <p:nvPicPr>
            <p:cNvPr id="246" name="Rectangle 5" descr=""/>
            <p:cNvPicPr/>
            <p:nvPr/>
          </p:nvPicPr>
          <p:blipFill>
            <a:blip r:embed="rId4"/>
            <a:stretch/>
          </p:blipFill>
          <p:spPr>
            <a:xfrm>
              <a:off x="743040" y="-109440"/>
              <a:ext cx="731052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914400" y="152280"/>
              <a:ext cx="68580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Physical Effects of Acromegaly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151920" y="3200040"/>
            <a:ext cx="861084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 u="sng">
                <a:solidFill>
                  <a:srgbClr val="000000"/>
                </a:solidFill>
                <a:uFillTx/>
                <a:latin typeface="Calibri"/>
              </a:rPr>
              <a:t>Bone 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Calibri"/>
              </a:rPr>
              <a:t>thickening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ruding lower jaw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= prognathism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 upper jaw, supraorbital ridge &amp; separation of teeth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arsening of facial feature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bone deformiti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nds and feet (=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c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s) are enlarged(thick, broad fing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wing of spin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kyphosi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Rectangle 2"/>
          <p:cNvGrpSpPr/>
          <p:nvPr/>
        </p:nvGrpSpPr>
        <p:grpSpPr>
          <a:xfrm>
            <a:off x="1249200" y="-109440"/>
            <a:ext cx="4816800" cy="1919160"/>
            <a:chOff x="1249200" y="-109440"/>
            <a:chExt cx="4816800" cy="1919160"/>
          </a:xfrm>
        </p:grpSpPr>
        <p:pic>
          <p:nvPicPr>
            <p:cNvPr id="250" name="Rectangle 2" descr=""/>
            <p:cNvPicPr/>
            <p:nvPr/>
          </p:nvPicPr>
          <p:blipFill>
            <a:blip r:embed="rId1"/>
            <a:stretch/>
          </p:blipFill>
          <p:spPr>
            <a:xfrm>
              <a:off x="1249200" y="-109440"/>
              <a:ext cx="4816800" cy="19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1371600" y="152280"/>
              <a:ext cx="4572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Physical Effects </a:t>
              </a:r>
              <a:br>
                <a:rPr sz="4000"/>
              </a:b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of Acromegaly 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2" name=""/>
          <p:cNvSpPr txBox="1"/>
          <p:nvPr/>
        </p:nvSpPr>
        <p:spPr>
          <a:xfrm>
            <a:off x="-360" y="137124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Soft tissue enlar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- Deeper voice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ecause larynx enlar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- Bigger tongue and lips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at affects brea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- Cartilages in nose  and ears enlarge making </a:t>
            </a:r>
            <a:r>
              <a:rPr b="1" lang="en-CA" sz="2800" spc="-1" strike="noStrike">
                <a:solidFill>
                  <a:srgbClr val="000000"/>
                </a:solidFill>
                <a:latin typeface="Calibri"/>
              </a:rPr>
              <a:t>nose and ears broa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Impaired muscle mov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nlargement of bones crush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peroneal nerve in kn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Nerve cannot send messages 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leg to trigger walking mo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4" descr="acromegaly"/>
          <p:cNvPicPr/>
          <p:nvPr/>
        </p:nvPicPr>
        <p:blipFill>
          <a:blip r:embed="rId2"/>
          <a:stretch/>
        </p:blipFill>
        <p:spPr>
          <a:xfrm>
            <a:off x="5943600" y="3505320"/>
            <a:ext cx="2971800" cy="3047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54" name="Picture 8" descr="http://www.medindia.net/patients/patientinfo/images/acromegaly.jpg"/>
          <p:cNvPicPr/>
          <p:nvPr/>
        </p:nvPicPr>
        <p:blipFill>
          <a:blip r:embed="rId3"/>
          <a:stretch/>
        </p:blipFill>
        <p:spPr>
          <a:xfrm>
            <a:off x="6248520" y="0"/>
            <a:ext cx="2895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Rectangle 2"/>
          <p:cNvGrpSpPr/>
          <p:nvPr/>
        </p:nvGrpSpPr>
        <p:grpSpPr>
          <a:xfrm>
            <a:off x="1249200" y="115920"/>
            <a:ext cx="6572520" cy="1316160"/>
            <a:chOff x="1249200" y="115920"/>
            <a:chExt cx="6572520" cy="1316160"/>
          </a:xfrm>
        </p:grpSpPr>
        <p:pic>
          <p:nvPicPr>
            <p:cNvPr id="256" name="Rectangle 2" descr=""/>
            <p:cNvPicPr/>
            <p:nvPr/>
          </p:nvPicPr>
          <p:blipFill>
            <a:blip r:embed="rId1"/>
            <a:stretch/>
          </p:blipFill>
          <p:spPr>
            <a:xfrm>
              <a:off x="1249200" y="115920"/>
              <a:ext cx="657252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371600" y="380880"/>
              <a:ext cx="6324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000" spc="-1" strike="noStrike">
                  <a:solidFill>
                    <a:srgbClr val="ffff00"/>
                  </a:solidFill>
                  <a:latin typeface="Calibri"/>
                </a:rPr>
                <a:t>Acromegaly: Heart Defect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 u="sng">
                <a:solidFill>
                  <a:srgbClr val="000000"/>
                </a:solidFill>
                <a:uFillTx/>
                <a:latin typeface="Calibri"/>
              </a:rPr>
              <a:t>Cardiac effe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alibri"/>
              </a:rPr>
              <a:t>Heart grows bigger in order to pump out sufficient blo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2" descr="http://knowmedge.com/blog/wp-content/uploads/2014/05/Acromegaly-Symptoms.png"/>
          <p:cNvPicPr/>
          <p:nvPr/>
        </p:nvPicPr>
        <p:blipFill>
          <a:blip r:embed="rId2"/>
          <a:srcRect l="0" t="4378" r="0" b="12504"/>
          <a:stretch/>
        </p:blipFill>
        <p:spPr>
          <a:xfrm>
            <a:off x="380880" y="2514600"/>
            <a:ext cx="7848720" cy="41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Title 1"/>
          <p:cNvGrpSpPr/>
          <p:nvPr/>
        </p:nvGrpSpPr>
        <p:grpSpPr>
          <a:xfrm>
            <a:off x="334800" y="500040"/>
            <a:ext cx="8474400" cy="1389240"/>
            <a:chOff x="334800" y="500040"/>
            <a:chExt cx="8474400" cy="1389240"/>
          </a:xfrm>
        </p:grpSpPr>
        <p:pic>
          <p:nvPicPr>
            <p:cNvPr id="261" name="Title 1" descr=""/>
            <p:cNvPicPr/>
            <p:nvPr/>
          </p:nvPicPr>
          <p:blipFill>
            <a:blip r:embed="rId1"/>
            <a:stretch/>
          </p:blipFill>
          <p:spPr>
            <a:xfrm>
              <a:off x="334800" y="500040"/>
              <a:ext cx="84744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57200" y="6094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63" name="Picture 2" descr="http://neuros-org.s3.amazonaws.com/assets/public/n42/com_photos/6b060480177661dd86c09edcd23b9e47_medium.jpg"/>
          <p:cNvPicPr/>
          <p:nvPr/>
        </p:nvPicPr>
        <p:blipFill>
          <a:blip r:embed="rId2"/>
          <a:srcRect l="0" t="0" r="0" b="13932"/>
          <a:stretch/>
        </p:blipFill>
        <p:spPr>
          <a:xfrm>
            <a:off x="304920" y="5335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Content Placeholder 3" descr="10891607_10152930239124089_2857861898148469211_n.jpg"/>
          <p:cNvPicPr/>
          <p:nvPr/>
        </p:nvPicPr>
        <p:blipFill>
          <a:blip r:embed="rId1"/>
          <a:stretch/>
        </p:blipFill>
        <p:spPr>
          <a:xfrm>
            <a:off x="304920" y="380880"/>
            <a:ext cx="86104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-360" y="13712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rowth horm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yroid hormon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wth is severely stunted 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ypothyroid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secretion does not cause excessive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sulin &amp; IGF 1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ciency often blocks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insulinism often spurts excessive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droge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y a role in pubertal growth spurt, stimulat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ein synthes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ny orga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ects depend on presence of G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Rectangle 2"/>
          <p:cNvGrpSpPr/>
          <p:nvPr/>
        </p:nvGrpSpPr>
        <p:grpSpPr>
          <a:xfrm>
            <a:off x="414360" y="133200"/>
            <a:ext cx="8474040" cy="1420920"/>
            <a:chOff x="414360" y="133200"/>
            <a:chExt cx="8474040" cy="1420920"/>
          </a:xfrm>
        </p:grpSpPr>
        <p:pic>
          <p:nvPicPr>
            <p:cNvPr id="143" name="Rectangle 2" descr=""/>
            <p:cNvPicPr/>
            <p:nvPr/>
          </p:nvPicPr>
          <p:blipFill>
            <a:blip r:embed="rId1"/>
            <a:stretch/>
          </p:blipFill>
          <p:spPr>
            <a:xfrm>
              <a:off x="414360" y="133200"/>
              <a:ext cx="847404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533520" y="457200"/>
              <a:ext cx="8229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Hormones regulating growth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Rectangle 2"/>
          <p:cNvGrpSpPr/>
          <p:nvPr/>
        </p:nvGrpSpPr>
        <p:grpSpPr>
          <a:xfrm>
            <a:off x="1504800" y="85680"/>
            <a:ext cx="6243840" cy="2084400"/>
            <a:chOff x="1504800" y="85680"/>
            <a:chExt cx="6243840" cy="2084400"/>
          </a:xfrm>
        </p:grpSpPr>
        <p:pic>
          <p:nvPicPr>
            <p:cNvPr id="146" name="Rectangle 2" descr=""/>
            <p:cNvPicPr/>
            <p:nvPr/>
          </p:nvPicPr>
          <p:blipFill>
            <a:blip r:embed="rId1"/>
            <a:stretch/>
          </p:blipFill>
          <p:spPr>
            <a:xfrm>
              <a:off x="1504800" y="85680"/>
              <a:ext cx="624384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676520" y="380880"/>
              <a:ext cx="579096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Growth hormone (GH) </a:t>
              </a:r>
              <a:br>
                <a:rPr sz="4400"/>
              </a:br>
              <a:r>
                <a:rPr b="1" lang="en-US" sz="4400" spc="-1" strike="noStrike">
                  <a:solidFill>
                    <a:srgbClr val="ffff00"/>
                  </a:solidFill>
                  <a:latin typeface="Calibri"/>
                </a:rPr>
                <a:t>(= Somatotropin)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8" name=""/>
          <p:cNvSpPr txBox="1"/>
          <p:nvPr/>
        </p:nvSpPr>
        <p:spPr>
          <a:xfrm>
            <a:off x="228600" y="1874880"/>
            <a:ext cx="8610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atotrop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ropic hormone that affects somatic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owth hormone i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191- amino aci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ingle-chain synthesized, stored, and secreted by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matotropic cell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anterior pituitary gla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metabolized rapidly 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v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rt duration of act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20 minut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Rectangle 2"/>
          <p:cNvGrpSpPr/>
          <p:nvPr/>
        </p:nvGrpSpPr>
        <p:grpSpPr>
          <a:xfrm>
            <a:off x="2011320" y="30240"/>
            <a:ext cx="4591080" cy="1530360"/>
            <a:chOff x="2011320" y="30240"/>
            <a:chExt cx="4591080" cy="1530360"/>
          </a:xfrm>
        </p:grpSpPr>
        <p:pic>
          <p:nvPicPr>
            <p:cNvPr id="150" name="Rectangle 2" descr=""/>
            <p:cNvPicPr/>
            <p:nvPr/>
          </p:nvPicPr>
          <p:blipFill>
            <a:blip r:embed="rId1"/>
            <a:stretch/>
          </p:blipFill>
          <p:spPr>
            <a:xfrm>
              <a:off x="2011320" y="30240"/>
              <a:ext cx="45910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133720" y="228600"/>
              <a:ext cx="4343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800" spc="-1" strike="noStrike">
                  <a:solidFill>
                    <a:srgbClr val="ffff00"/>
                  </a:solidFill>
                  <a:latin typeface="Calibri"/>
                </a:rPr>
                <a:t>GH Functions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2" name=""/>
          <p:cNvSpPr txBox="1"/>
          <p:nvPr/>
        </p:nvSpPr>
        <p:spPr>
          <a:xfrm>
            <a:off x="22860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Stimulates grow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1c02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0288"/>
                </a:solidFill>
                <a:latin typeface="Calibri"/>
              </a:rPr>
              <a:t>Hypertrophy</a:t>
            </a:r>
            <a:r>
              <a:rPr b="0" lang="en-US" sz="3200" spc="-1" strike="noStrike">
                <a:solidFill>
                  <a:srgbClr val="1c0288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size of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bon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ck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 u="sng">
                <a:solidFill>
                  <a:srgbClr val="000000"/>
                </a:solidFill>
                <a:uFillTx/>
                <a:latin typeface="Calibri"/>
              </a:rPr>
              <a:t>Stimulates cell reprodu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rate of mit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1c02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0288"/>
                </a:solidFill>
                <a:latin typeface="Calibri"/>
              </a:rPr>
              <a:t>Hyperplasia</a:t>
            </a:r>
            <a:r>
              <a:rPr b="0" lang="en-US" sz="3200" spc="-1" strike="noStrike">
                <a:solidFill>
                  <a:srgbClr val="1c0288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number of cells &amp; proliferation r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bon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ng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Rectangle 2"/>
          <p:cNvGrpSpPr/>
          <p:nvPr/>
        </p:nvGrpSpPr>
        <p:grpSpPr>
          <a:xfrm>
            <a:off x="1176480" y="79200"/>
            <a:ext cx="6413400" cy="1316160"/>
            <a:chOff x="1176480" y="79200"/>
            <a:chExt cx="6413400" cy="1316160"/>
          </a:xfrm>
        </p:grpSpPr>
        <p:pic>
          <p:nvPicPr>
            <p:cNvPr id="154" name="Rectangle 2" descr=""/>
            <p:cNvPicPr/>
            <p:nvPr/>
          </p:nvPicPr>
          <p:blipFill>
            <a:blip r:embed="rId1"/>
            <a:stretch/>
          </p:blipFill>
          <p:spPr>
            <a:xfrm>
              <a:off x="1176480" y="79200"/>
              <a:ext cx="641340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295280" y="304920"/>
              <a:ext cx="6172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Calibri"/>
                </a:rPr>
                <a:t>Metabolic functions of GH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304920" y="10663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) Protein synthesis (Anabolic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equate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insulin &amp; carbohydrat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ecessary for GH to be effectiv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mino acid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nsport inside cell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rotein accumulation in all cel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nscription to form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mRN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rotein synthes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NA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nsla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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protein synthesi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2) Lipolytic &amp; Ketogenic effect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ilization &amp; use of fatty acids for supplying energ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excess hormon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ket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28600" y="456840"/>
            <a:ext cx="86104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3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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Utilization of carbohydrate for energy produ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ptake of glucose by cells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lood glucos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diabetogenic effect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e of glucose for energy production due to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utilization of fatty acids for energ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nhib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exokinas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enzyme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nhibits glucose uptake by muscles (opposite to insulin effect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patic glucose output (stimulate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glycogenolysi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ulin output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burn out of beta cells of pancreas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(pituitary diabetes)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Rectangle 2"/>
          <p:cNvGrpSpPr/>
          <p:nvPr/>
        </p:nvGrpSpPr>
        <p:grpSpPr>
          <a:xfrm>
            <a:off x="334800" y="493560"/>
            <a:ext cx="8474400" cy="1420920"/>
            <a:chOff x="334800" y="493560"/>
            <a:chExt cx="8474400" cy="1420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334800" y="493560"/>
              <a:ext cx="847440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57200" y="609480"/>
              <a:ext cx="82296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4400" spc="-1" strike="noStrike">
                  <a:solidFill>
                    <a:srgbClr val="ffff00"/>
                  </a:solidFill>
                  <a:latin typeface="Calibri"/>
                </a:rPr>
                <a:t>GH Function (Indirect Effect)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1" name=""/>
          <p:cNvSpPr txBox="1"/>
          <p:nvPr/>
        </p:nvSpPr>
        <p:spPr>
          <a:xfrm>
            <a:off x="304920" y="17524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ost growth occurs through the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indirect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meth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GH acts as a tropic hormone acting on </a:t>
            </a:r>
            <a:r>
              <a:rPr b="1" lang="en-CA" sz="3200" spc="-1" strike="noStrike">
                <a:solidFill>
                  <a:srgbClr val="000000"/>
                </a:solidFill>
                <a:latin typeface="Calibri"/>
              </a:rPr>
              <a:t>the live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o produce Insulin-like Growth Factor-1 (IGF-1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b1bb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b1bb5"/>
                </a:solidFill>
                <a:latin typeface="Calibri"/>
              </a:rPr>
              <a:t>Insulin-like growth factor I (somatomedin C)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growth promoting activities in many tissues and cartilage with a prolonged duration of actio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20 hou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Title 1"/>
          <p:cNvGrpSpPr/>
          <p:nvPr/>
        </p:nvGrpSpPr>
        <p:grpSpPr>
          <a:xfrm>
            <a:off x="334800" y="500040"/>
            <a:ext cx="8474400" cy="1389240"/>
            <a:chOff x="334800" y="500040"/>
            <a:chExt cx="8474400" cy="1389240"/>
          </a:xfrm>
        </p:grpSpPr>
        <p:pic>
          <p:nvPicPr>
            <p:cNvPr id="163" name="Title 1" descr=""/>
            <p:cNvPicPr/>
            <p:nvPr/>
          </p:nvPicPr>
          <p:blipFill>
            <a:blip r:embed="rId1"/>
            <a:stretch/>
          </p:blipFill>
          <p:spPr>
            <a:xfrm>
              <a:off x="334800" y="500040"/>
              <a:ext cx="847440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57200" y="6094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" y="187488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https://humanphysiology2011.wikispaces.com/file/view/19.16.jpg/225325304/693x415/19.16.jpg"/>
          <p:cNvPicPr/>
          <p:nvPr/>
        </p:nvPicPr>
        <p:blipFill>
          <a:blip r:embed="rId3"/>
          <a:srcRect l="0" t="3853" r="0" b="0"/>
          <a:stretch/>
        </p:blipFill>
        <p:spPr>
          <a:xfrm>
            <a:off x="228600" y="380880"/>
            <a:ext cx="86104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8:22:49Z</dcterms:created>
  <dc:creator>User</dc:creator>
  <dc:description/>
  <dc:language>en-US</dc:language>
  <cp:lastModifiedBy>Jihan Badawi</cp:lastModifiedBy>
  <dcterms:modified xsi:type="dcterms:W3CDTF">2015-12-20T07:03:58Z</dcterms:modified>
  <cp:revision>96</cp:revision>
  <dc:subject/>
  <dc:title>GROWTH HORMONE</dc:title>
</cp:coreProperties>
</file>